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354-B86F-4523-B601-4E161C4E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417-585E-4DE7-A088-40DFC2FA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182-6BB4-4E16-9CE3-65167374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3E9-3589-453F-B0B5-55583DDB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09D-96EC-4D71-84A9-1BD5E08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BE5-1CF0-4CFF-9871-37B8ADA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96E-D5D5-4B6F-AF74-FB28304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6CF-948E-4CD2-9D5F-F051F7BD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5E3-1A30-4047-AFB9-DBE1AF1D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3AF-4699-45E1-9BCB-270B7F1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9B8-5255-435D-9B07-07E5445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978-1E13-44C5-86A4-E2AE7AF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9199-0F29-4A63-9C2A-F1114AF6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sing FTD 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e Marketing Offe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ecution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and time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 both customers and recip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pre-built letter, postcard and email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show you have to run a few campa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a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25:45Z</dcterms:created>
  <dc:creator>MTAC3740</dc:creator>
  <dc:description/>
  <dc:language>en-US</dc:language>
  <cp:lastModifiedBy>MTAC3740</cp:lastModifiedBy>
  <dcterms:modified xsi:type="dcterms:W3CDTF">2008-09-12T14:56:44Z</dcterms:modified>
  <cp:revision>2</cp:revision>
  <dc:subject/>
  <dc:title>Slide 1</dc:title>
</cp:coreProperties>
</file>